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1AE0F-8DC2-4CD4-B384-4CCB61D7A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3D3B2-727C-4F85-9757-106F24CA7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EEF47-9ED4-4206-B6A1-70CD06945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17DD1-86FF-492C-8251-5B0CF5592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C6F5E-93BB-407B-81AD-E59F46E7F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32481-18EB-44D6-B479-8C0136216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8FFD5-407C-4647-B491-8B3B2C54B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2A26A-1D70-4ED5-BB03-17A89ADF3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04F3E-EE99-43BF-91AE-EC8575556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37317-B35C-4AE1-A7EB-313EA526D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3C26D-C09A-483C-8A13-DBCD496F8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2F2CE-DF3C-4237-87A3-B477A7879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937B-13DD-45A9-B215-6813C496723C}"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UNIT 3 – IT APPLICATION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REA OF STUDY 1 &amp; 2</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UTCOM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OS 2: - Outcome 2 Key Skill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explain reasons why data is acquired and supplied via websit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propose techniques for acquiring data via websites and for protecting the rights of data provide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elect and apply design tools and techniques for describing data types and representing the functionality of soluti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use RDBMS functions and techniques to manipulate and validate dat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pply functions and techniques to construct queries that efficiently retrieve required inform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elect and apply testing methods and techniques to confirm whether the solutions operate as intend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54900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alibri"/>
              </a:rPr>
              <a:t>Area of study 1 - Online communities</a:t>
            </a:r>
            <a:br>
              <a:rPr sz="3600"/>
            </a:br>
            <a:endParaRPr b="0" lang="en-US" sz="3600" spc="-1" strike="noStrike">
              <a:solidFill>
                <a:srgbClr val="000000"/>
              </a:solidFill>
              <a:latin typeface="Calibri"/>
            </a:endParaRPr>
          </a:p>
        </p:txBody>
      </p:sp>
      <p:sp>
        <p:nvSpPr>
          <p:cNvPr id="44" name=""/>
          <p:cNvSpPr txBox="1"/>
          <p:nvPr/>
        </p:nvSpPr>
        <p:spPr>
          <a:xfrm>
            <a:off x="395280" y="14842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this area of study we will investigate types of online communities and their needs, and the types, purposes and functionality of specific types of websites that support information exchange, including wikis, blogs, forums and social networking sit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this area of study there is an emphasis on the analysis, design and development stages of the problem solving methodolog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Area of Study 1: - Outcome 1</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n completion of this Area of Study we will be able to apply the different stages of the problem-solving methodology to create a prototype website that meets an online community’s needs, and explain the technical requirements to support the hosting of this websi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opics we will cover in AOS 1</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Networks </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General definition and advantage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How network data and information can be shared within an organisation </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How networks can facilitate communication.</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ypes of Networks – LAN / WAN, design of a computer network, p2p networks, </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Intranets, Ethernet</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Network and Hardware – how is it related?</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Network Interface Card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What are Switches, Routers, Modem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Network Security</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Physical Design of Networks</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opics we will cover in AOS 1</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ebsites the support online communit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ifferent types of online commun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What are social network commun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What is the difference between a wiki and a blo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haracteristics of an online commun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What are some of the different constraints that setting up a website for a community could fa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What is the purpose of an online commun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OS 1: - Outcome 1 Key Skill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Identify types of websites suitable for different online commun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nalyse online communities in order to identify solution requirements and technical and nontechnical constrai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elect and apply appropriate design tools to represent the functionality and appearance of prototype websit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Use web authoring software and select and apply suitable functions, methods, formats, conventions, techniques and design elements to develop prototype websites that operate as intend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Justify websites that suit the needs of different online commun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Explain the technical requirements of the networks hosting the websit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hat is the Problem Solving Methodolog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nalysis (defining the probl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esign (sketching how the solution will loo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evelopment (creating the information produ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esting (ensuring all aspects perform as intend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ocumentation (writing instructions for us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mplementation (putting the solution to 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valuation (checking that the product solves the problem effective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Area of Study 2 - Organisations and data management</a:t>
            </a:r>
            <a:br>
              <a:rPr sz="3600"/>
            </a:br>
            <a:endParaRPr b="0" lang="en-US" sz="36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In this area of study we develop knowledge about how organisations can acquire data via websi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We also develop knowledge and skills in using a relational database management system (RDBMS) to manipulate data typically acquired through websites.  An example of a RDMBS is Microsoft Access.  This is the main program that we will use during the subjec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We review websites to ascertain the types of data being acquired, including text, numeric and images (still and moving), and to identify how the data is acquire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In this area of study there is an emphasis on the design and development stages of the problem-solving methodology.</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Area of Study 2: - Outcome 2</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n completion of this unit the student should be able to design, and develop using a relational database management system, a solution to an information problem, and discuss why and how data is acquired via websi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7T02:47:22Z</dcterms:created>
  <dc:creator>Education</dc:creator>
  <dc:description/>
  <dc:language>en-US</dc:language>
  <cp:lastModifiedBy>Education</cp:lastModifiedBy>
  <dcterms:modified xsi:type="dcterms:W3CDTF">2011-02-08T21:16:01Z</dcterms:modified>
  <cp:revision>14</cp:revision>
  <dc:subject/>
  <dc:title>Slide 1</dc:title>
</cp:coreProperties>
</file>